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F06-C1F1-4275-AE22-95F5D943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8D9-3517-4B4A-BE5B-7ECB7331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E1A61-F2AC-4B3A-9FF5-78DEAB6D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3F26F-E514-4E64-8E27-6F4798C2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0D866-ED01-48C0-8827-088A730C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9B51D-1B38-460C-910B-1B5EB9F8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1F967-F40E-4890-8105-758099CF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7F557-ECB2-4FC3-9150-B96E86DC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8C7E0-5E7E-4C38-8C03-24B0D686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06615-26DA-498F-AE55-4C8BDAD5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F9FA6-BD0B-471D-8AD0-4B1E577C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7B38E5-3B28-46D8-BCEA-658A8BAC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FC2-6064-4AF3-B9E9-58861021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DC6042-54D9-4924-8C5C-0EB2B8E1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D9B9E5-A8CC-4256-90B9-BDBA6767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6245DC-AA49-4BDE-9140-C0768EDE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CA4AD9-2A4E-413A-9B8C-606040FD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12D870-3EB1-4AC5-9CBC-1B197409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DC0742-EC9C-48D0-ADCC-83CF99F2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17BD8-FD99-4B1F-8996-3D9959C0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C5B0D-13B8-4068-A559-9A09AFAD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4C54E6-B570-47A8-B8DB-50C0567A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D5FEBC-A6E4-4E26-8340-0E9C13F2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523-C387-450A-A7BF-862A90AE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FBA68E-76A3-4B3D-825B-D192DB2A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C2859C-057C-4606-AC04-5D7DFB96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641A7E-ED95-4309-8C8A-466878B8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118F4E-9586-47E4-9647-DA01058D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DD3E0-BE8D-41CE-A7FF-08827580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0BCFFC-2970-4154-82CD-EF0549FB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40903D-252F-43AD-B95E-2BAEE5F8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DD1B8-88BF-4218-BD8E-12AE9D7C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485A16-1D34-4A9B-AA73-D3299A08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D01083-27BA-41EC-8FA3-3B8ADCB1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F2DC9-2249-4A6B-BAEA-A5E6746FE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621E44-C564-4CB8-9564-339744BD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B940F-6963-4457-8DED-0271D5B2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F1A6FC-608E-4794-8D49-F2523BB4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5B892D-7EAA-4A81-8F11-84574F2B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EA6203-31CA-4F22-B768-9FE798D4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B2EFAC-8DA7-49D5-BDB9-0E2AAF5C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A21E8A-B9C3-4598-BE36-47CEF1EC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00C058-8C2A-4FB3-A153-2F2C98E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04FED6-88E1-426F-B614-CA7626FF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C4A85F-8B39-4118-AD47-EF2A01A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63B72-C85A-4F46-B790-9A1E28F4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BFBA91-77A9-4EA1-B11D-6D152B4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F2D3AF-D68C-450E-942F-ACDF4A00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D585E8-0224-43ED-9FF7-C2B3C282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FB1CC1-5E32-48F9-83F2-9879BFBB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036A3B-FC0E-47FB-9261-80AFFB58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24CD7B-ACD1-4CBD-BEF8-2617599E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87FD12-358A-4129-A9E4-19C108DB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C4C2F1-DB7F-47DF-A747-8281DD64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F8C2F4-F4A3-47CC-9F9B-E47EF557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E8EC22-1F32-4B88-A59B-409F56D4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C36E8-72A7-44C3-B66B-FBDC205D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DB6B33-FE37-4734-AD4E-CEC04668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A3FE2C-B08D-427B-954E-87F88CE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29E7E9-2801-4FCE-9853-8F4EEAF4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32662B-DFF2-4AF5-BAC3-13EE2208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736EF6-894F-4066-9DAE-687047D3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18D937-4033-4DDD-9159-6045E6E6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9A92D8-34A3-4E9C-BCD3-0D3F7162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02A3F2-A8BF-4316-8B6B-11B46962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C66107-6568-4508-96FF-856110C9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37B79A-3496-43BF-9D3D-478EEF65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910D3-79C9-4B18-BD01-B0C3EC4E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BF103D-FC04-4E82-8506-FD5A1F25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3AFFBB-D10E-4ACA-A24E-AE84756F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2B91B2-72E4-437A-9BE1-C31D4606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255A8A-3A46-42BB-B432-575BD6E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1CDB5B-FB29-4A37-8F00-BE3E02B2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B070E7-699A-4420-9099-5759A3D4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305A73-83A2-42F9-9D70-E01C3BD1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850430-95DF-4D46-9CD7-3EAB428B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BFFC5F-DCC2-4BC9-A056-4C2C0FEA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684FD4-6D2C-4083-A8EB-0118FD81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3C5CB-706D-4ADF-8D0F-6C57A7F3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675645-4BE2-48B0-9433-6E31A1C3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1AC499-2423-4425-BBC4-A83AEC62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FBEE7B-B1AC-4ADA-A735-414482DA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292EBD-9184-4232-AAF2-372C8F52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45BDAE-F8BF-49D8-B149-36BF1A7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AD2C0A-9CDD-4C8B-B7EF-D2DBC3A9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622933-488C-4CA9-8523-B5E8707B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9371FB-FC94-40E0-A15A-AC79D1FB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A8A831-2FF7-4655-949D-7CA7AA9A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C33335-EDDF-46EF-BCB6-DEEB32E7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55144-676A-49D6-BA1F-56A9CAC2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FB2559-2F70-433B-A6A1-C2BA5BBD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9A6FDB-4560-402E-A598-8AF4D5A13E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72E7EA-2846-4FCF-BC1A-A3DA326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8FCE6D-0FE0-4BA6-B996-059B0CFD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E19EB6-275E-4638-BE2E-3B6568FD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9632B0-87DB-4DEE-AC76-A6EFEA1E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99CBAA-16A5-49FB-84ED-AA27DA3B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82565A-BD60-4ECD-A08C-1FC35F9D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BFD88C-E53A-41E0-A3A5-96494CB4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113D45-2E7E-4044-826B-09798956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54A2F-A156-4DD5-9867-C4E56A01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E2D910-3BCC-4C7E-A1D9-BD90D4B8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7A5A83-2525-4FB0-BD8E-5F02B1C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93B3EC-A7BD-40E5-B820-D54C9EB58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F39-9521-4174-A539-3D12A150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69619-A7F2-4E71-A098-504FCF23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B7A75-3C6F-402D-B355-92C707E4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EC765-DE1A-4EAD-93C4-ADFA648C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B3D14-DC13-437F-87A0-05A17FC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92BA6-971F-44E5-AE0A-3EE77F9334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8BD7E-062E-4FBC-A430-398025DB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CE320-EFA6-4942-8E56-D00547AD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B67EA-3DC6-427A-BAFD-ABA8BE08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A9FF5-BD39-4CFB-8359-AB75009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EF9B2-DC20-4EB3-AFE7-BCA28687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AD9-FCBB-45D3-A2DF-26892589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BBE33-9F1E-410B-B642-D8F0A272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91FD2-1EAD-431F-B0C4-0064CCC6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579CA-6F31-42FF-AB36-A1C1AB6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5644F-F59A-4CF2-8B92-8FD9E3CA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CA0BF-9FC5-45CA-B322-95D88C89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96EF9-7EA1-4126-BE67-DF00C6A6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02203-C86F-48B9-A2D8-C7EBC404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770-91E7-4FB0-A9E4-AA213204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B11-3B4B-4F83-9522-7FA183C8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3C2-1FA7-4224-B4F1-C7F1FC86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0A024-F6BF-40AA-BE1C-838B48FF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70708-3E80-40B1-AAD9-51EEB81F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BFB23-BAE8-4F1D-81BC-0D7A229F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30C13-DC9E-4CEE-AB37-F4A2C3E9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7DB00-9544-42BC-974B-7379251D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FDA5D-3194-4225-BC39-C996B76E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A78CB-3A02-480F-8889-D96BC2B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82AC3-8AF9-4F52-BD6C-655C236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B8561-6B26-4154-A0CB-9A66FD3A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D9F-A4A2-4B40-9FD7-4F42020A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67DD0-E338-44D7-9D32-CDC3AE45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CCE17-2101-4DCA-A10E-9FC0C9B7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7B469-ECE4-4FB6-86CC-0C58034E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93E44B-B791-4D11-90E0-D63860C6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DE7F3-38A3-4C2C-ABA9-2A49EA5F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C5459-1610-4271-A400-7C290556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65736-8DEF-40E1-8A17-8D1A72C0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6AAA3-09FE-42F7-B0EB-CCB8C5C8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916E5-8C19-4139-B2AB-5643465B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3FF0E-BE90-40D8-9714-F270E629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407-413F-4FA2-9C78-F62E9599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EE913-7582-4315-8E40-19CBE004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290A5-D6F7-4FBB-A6A3-CB5DCAD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FD9FC-626C-4EA7-8F64-0A22821E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42AE6-498B-47A2-94BF-6E3F25E2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6296B-4937-45B8-96A8-C3D5B01E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FF2FA-3843-4E79-88D6-81F9E307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393E1-4929-476C-9FE1-12912C5D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9291B-C3BC-44CC-A905-C77E2D5A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CCCAD-FD1F-4567-A8D1-3E08DC3A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AFEC3-0045-42A3-A783-A9CF4254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4FF-58C5-4CAD-B125-AB5C92F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D47FA-EF6A-4F4A-83CF-90381B8C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C2287-6E44-4CED-9C3C-DDB1297B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A6135-3424-47E5-B958-FAAA564B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FB933-5552-4147-AA02-16D34A4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42902-2A98-4E54-94EA-942D865A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3E838-2D2F-43ED-871E-F7D89C80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9475C-0181-494E-85EE-5EC84368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F0EA6-F6DE-41BC-B51E-5E3A595B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C7C51-FC6F-4199-9AA6-F29354DE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FA964-2CB5-480F-B5DC-FA685E65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EA79-1DA4-4B8C-BD77-D5637838282E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7B05-54FA-4079-8C49-8611AE68181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F300-D854-4176-A27B-89E919D3743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E62C-3393-40AA-A312-0A0AFC96A0E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0132-725E-4687-848B-2526E33D030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267F-7D45-4B62-957B-DF1B1FF48FA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C6A-A7E3-4DD0-8868-4DC4A400A59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B810-CC3F-4C6A-AE7B-D9943CDC78E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D46-F5F5-49C5-953F-68EBF1C1250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855-54F9-425B-A5F8-00C72B7F0D6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6DE9-AF70-45DC-8230-CEF28F65D57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EED3-FFE8-4057-9599-6F982A92F2B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B5D1-B8F8-43CF-89D5-7E57E7EC79CE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2185-07D1-499E-B85A-7B7CCAB22B8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3068-04D2-4EF6-AE41-F976ED38F90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40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A152-B6AF-43C7-BE12-B082E3E3134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767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769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1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2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3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4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5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6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7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8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9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0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1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2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3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4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5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6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7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8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9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0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1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2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3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4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5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6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7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8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9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0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7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8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9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0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6F98-3ED2-4BCE-BA51-7DB4020F089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B0AC-FB07-410B-9DDA-C595D0792D3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2475-AA3C-40B5-81F2-237D74E9DA3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916F-C7A1-41A9-AC0C-CFAF189BF31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9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1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5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4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5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6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7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8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9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0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1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2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3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4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5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6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7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8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9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3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4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5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6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7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8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212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214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6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7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8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9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0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1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2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3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4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5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6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7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8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9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0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1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2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2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3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4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5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6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7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8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9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0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1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2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3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4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5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6434-5904-4B33-A9AC-671EC0A8070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3BC0-5A4E-4D60-B5B6-F6D51708580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570F-73F4-45BA-BDEA-546B46C126C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6897-BD17-4C42-9B43-6C5750596C3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0B3A-FE36-4E5B-844C-4EA9A2AACB9E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6CEA-2229-4588-A46E-1FDC3C9FAF1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3658-F3BB-4630-8FAB-1486B8924EA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99E-F6ED-4BFC-A6AE-135173AB63B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50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851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853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4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85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0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861" name="Oval 102" descr=""/>
            <p:cNvPicPr/>
            <p:nvPr/>
          </p:nvPicPr>
          <p:blipFill>
            <a:blip r:embed="rId3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3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864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5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6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7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868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9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0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1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2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3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4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5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76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77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878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9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0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81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882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3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4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5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6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7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8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89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89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93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89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00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901" name="Oval 138" descr=""/>
            <p:cNvPicPr/>
            <p:nvPr/>
          </p:nvPicPr>
          <p:blipFill>
            <a:blip r:embed="rId6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03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90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58920" y="3271320"/>
            <a:ext cx="55450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Eskom CentralEast Supplier Development Localization and Industrialization (SDL&amp;I) (KZN &amp; FS) Substation Building Maintenance Services &amp;Tower Foundation Repairs Clarification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3058920" y="4092120"/>
            <a:ext cx="554508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Presented by: Gwendeline Alexander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21 November 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Checklist – This check list can be used for guidance on submission of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938C-36AF-417F-A348-0C2FB4C91D49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8D5-E637-4B53-B8EF-4711D6A7AA9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684360" y="1700280"/>
          <a:ext cx="7200720" cy="4249800"/>
        </p:xfrm>
        <a:graphic>
          <a:graphicData uri="http://schemas.openxmlformats.org/drawingml/2006/table">
            <a:tbl>
              <a:tblPr/>
              <a:tblGrid>
                <a:gridCol w="231480"/>
                <a:gridCol w="5670720"/>
                <a:gridCol w="1298520"/>
              </a:tblGrid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Document to complete and/or to submit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Tick Box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worn Affidavit or</a:t>
                      </a:r>
                      <a:r>
                        <a:rPr b="1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 Certified</a:t>
                      </a: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 BBBEE Certificate (Mandatory)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CIPC Registration Document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Identity Documents of owners of Company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hares Certificate where applicable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Jobs Created and Jobs Retained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kills Targets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igned Commitment Letter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8 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Latest Financial Statements corresponding to the financial date reflected on the sworn affidavit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7" name="Rectangle 59"/>
          <p:cNvSpPr/>
          <p:nvPr/>
        </p:nvSpPr>
        <p:spPr>
          <a:xfrm>
            <a:off x="-1992240" y="0"/>
            <a:ext cx="119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6381-E10A-4F60-BB26-07CF876E490C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FE3E-6076-4B4D-95FA-7591C15C08B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36320" y="1125000"/>
            <a:ext cx="852804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  <a:ea typeface="Times New Roman"/>
              </a:rPr>
              <a:t>NO PREQUALIFICATION CRITERIA: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This enquiry is open to EME, QSE and LME 1 and 2 Service Providers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</a:rPr>
              <a:t>REQUIREMENT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</a:rPr>
              <a:t>All Tenderers must submit proof of their BBBEE Status based on the turnover on their Financial Statements (this is to verify that you are submitting the correct sworn affidavit)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EME - Valid copy of  Sworn Affidavit or valid copy of BBBEE Certificate issued by CIPC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QSE - Valid copy of Sworn Affidavit/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 accredited verification agency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LME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accredited verification agency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Joint Ventures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Accredited verification agency</a:t>
            </a:r>
            <a:r>
              <a:rPr b="0" lang="en-ZA" sz="1400" spc="-1" strike="noStrike">
                <a:solidFill>
                  <a:srgbClr val="003896"/>
                </a:solidFill>
                <a:latin typeface="Arial"/>
              </a:rPr>
              <a:t>  - the certificate must be in the name of the joint venture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4693-97FE-4C0D-A64D-5E62C4570639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F0FC-17BB-400D-BD54-7FBE6251891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Elements of  B-BBEE Sworn Affidav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36680" y="981000"/>
            <a:ext cx="8378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Tenderers submitting B-BBEE Sworn Affidavits must ensure that the affidavits meet the following key pointers to ensure their validity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a) Name/s of deponent as they appear in the identity document and the identity number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esignation of the deponent as the director, owner or member must be indicated in order to know that person is duly  authorized to depose of an affidavit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or circle </a:t>
            </a:r>
            <a:r>
              <a:rPr b="1" lang="en-ZA" sz="1200" spc="-1" strike="noStrike">
                <a:solidFill>
                  <a:srgbClr val="003896"/>
                </a:solidFill>
                <a:latin typeface="Arial"/>
              </a:rPr>
              <a:t>whichever is applicable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c) Name of enterprise as per enterprise registration documents issued by the CIPC, where applicable, and enterprise business address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) Percentage of black ownership, black female ownership and designated group. In the case of specialised enterprises as per Statement 004, the percentage of black beneficiaries must be reflected. (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No blank spaces to be left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e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ndicate total revenue for the year under review and whether it is based on audited financial statements or financial statements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the applicable option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inancial year end as per the enterprise’s registration documents, which was used to determine the total revenue. (Financial year end to be stipulated b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day/month/year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g) B-BBEE Status level. An enterprise can only have one status level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h) Empowering supplier status must be indicated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ate deponent signed and date of Commissioner of Oath must be the same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The sworn Affidavit must be signed in    the presence of the Commissioner of Oath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j) Commissioner of Oath cannot be an employee or ex officio of the enterprise because, a person cannot by law, commission a sworn affidavit in which they have an interest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K) Sworn Affidavits attested / signed by a Commissioner of Oaths as a true cop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stamp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will not be accepted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4062-1F04-4A3A-B7AB-479EDF3FD1F1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7E8C-C315-4CE8-9F31-1D590B7B6DC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n How to Complete a Sworn Affidavit  - page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Content Placeholder 6" descr=""/>
          <p:cNvPicPr/>
          <p:nvPr/>
        </p:nvPicPr>
        <p:blipFill>
          <a:blip r:embed="rId1"/>
          <a:stretch/>
        </p:blipFill>
        <p:spPr>
          <a:xfrm>
            <a:off x="328680" y="1125360"/>
            <a:ext cx="8636040" cy="5596200"/>
          </a:xfrm>
          <a:prstGeom prst="rect">
            <a:avLst/>
          </a:prstGeom>
          <a:ln w="0">
            <a:noFill/>
          </a:ln>
        </p:spPr>
      </p:pic>
      <p:sp>
        <p:nvSpPr>
          <p:cNvPr id="91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5D7-5F13-405F-BCD7-480801A7C027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5F03-A28D-458F-A007-823A24F4D81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n How to Complete a Sworn Affidavit – page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Content Placeholder 6" descr=""/>
          <p:cNvPicPr/>
          <p:nvPr/>
        </p:nvPicPr>
        <p:blipFill>
          <a:blip r:embed="rId1"/>
          <a:stretch/>
        </p:blipFill>
        <p:spPr>
          <a:xfrm>
            <a:off x="328680" y="1125360"/>
            <a:ext cx="8486640" cy="5565960"/>
          </a:xfrm>
          <a:prstGeom prst="rect">
            <a:avLst/>
          </a:prstGeom>
          <a:ln w="0">
            <a:noFill/>
          </a:ln>
        </p:spPr>
      </p:pic>
      <p:sp>
        <p:nvSpPr>
          <p:cNvPr id="92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ACA9-31F8-47DC-B23C-2FC78476B03A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9BCC-41A9-4E04-9888-62E0F48A8F9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BBEE Certificate for Exempted Micro Ente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Content Placeholder 5" descr=""/>
          <p:cNvPicPr/>
          <p:nvPr/>
        </p:nvPicPr>
        <p:blipFill>
          <a:blip r:embed="rId1"/>
          <a:stretch/>
        </p:blipFill>
        <p:spPr>
          <a:xfrm>
            <a:off x="2828880" y="1436760"/>
            <a:ext cx="3594240" cy="5045040"/>
          </a:xfrm>
          <a:prstGeom prst="rect">
            <a:avLst/>
          </a:prstGeom>
          <a:ln w="0">
            <a:noFill/>
          </a:ln>
        </p:spPr>
      </p:pic>
      <p:sp>
        <p:nvSpPr>
          <p:cNvPr id="92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55D4-5816-4A67-9E8B-863A5F70E9AE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E18F-33DE-4E26-95DD-7F8E0AFA636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EE Certif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070D-A989-4248-ADD9-9844172FD0D1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8DDA-6F36-4E05-816B-328758ED70D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932" name="Content Placeholder 7" descr=""/>
          <p:cNvPicPr/>
          <p:nvPr/>
        </p:nvPicPr>
        <p:blipFill>
          <a:blip r:embed="rId1"/>
          <a:stretch/>
        </p:blipFill>
        <p:spPr>
          <a:xfrm>
            <a:off x="2676600" y="1436760"/>
            <a:ext cx="3898800" cy="504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s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9F24-0C10-40FA-A13A-1C6B873A37C9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9828-052B-4CA3-AC35-F4D1842CF76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All Service Providers to propose targets against the Eskom target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Contractors Letter to Commitment to SDL&amp;I Requirements to be completed and signed 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900000" y="2962440"/>
            <a:ext cx="1016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96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900000" y="2205000"/>
          <a:ext cx="7344000" cy="279072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  <a:gridCol w="2448000"/>
              </a:tblGrid>
              <a:tr h="57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kom Target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derer Proposal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79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N3/Matric Electrical Engineering technician/ Learnership (Course Certificate)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N3/Matric Civil Engineering technician/Learnership (Course Certificate)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Requirements to be Submit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IPC Documen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hareholder’s Certificate/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Identity Documents of Owner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Jobs Created and Retaine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AC88-B788-45B8-A597-C7B2B2B4C3DB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E802-4E74-4841-A80B-8D1F5C8A4F0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Anita Rickhoff</cp:lastModifiedBy>
  <cp:lastPrinted>2018-11-13T06:26:01Z</cp:lastPrinted>
  <dcterms:modified xsi:type="dcterms:W3CDTF">2022-11-21T09:44:53Z</dcterms:modified>
  <cp:revision>8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dd17a35c-9c67-4dda-b948-74ee3b80cf57_Application">
    <vt:lpwstr>Microsoft Azure Information Protection</vt:lpwstr>
  </property>
  <property fmtid="{D5CDD505-2E9C-101B-9397-08002B2CF9AE}" pid="3" name="MSIP_Label_dd17a35c-9c67-4dda-b948-74ee3b80cf57_Enabled">
    <vt:lpwstr>True</vt:lpwstr>
  </property>
  <property fmtid="{D5CDD505-2E9C-101B-9397-08002B2CF9AE}" pid="4" name="MSIP_Label_dd17a35c-9c67-4dda-b948-74ee3b80cf57_Extended_MSFT_Method">
    <vt:lpwstr>Manual</vt:lpwstr>
  </property>
  <property fmtid="{D5CDD505-2E9C-101B-9397-08002B2CF9AE}" pid="5" name="MSIP_Label_dd17a35c-9c67-4dda-b948-74ee3b80cf57_Name">
    <vt:lpwstr>Public</vt:lpwstr>
  </property>
  <property fmtid="{D5CDD505-2E9C-101B-9397-08002B2CF9AE}" pid="6" name="MSIP_Label_dd17a35c-9c67-4dda-b948-74ee3b80cf57_Ref">
    <vt:lpwstr>https://api.informationprotection.azure.com/api/93aedbdc-cc67-4652-aa12-d250a876ae79</vt:lpwstr>
  </property>
  <property fmtid="{D5CDD505-2E9C-101B-9397-08002B2CF9AE}" pid="7" name="MSIP_Label_dd17a35c-9c67-4dda-b948-74ee3b80cf57_SetBy">
    <vt:lpwstr>EdmundDH@eskom.co.za</vt:lpwstr>
  </property>
  <property fmtid="{D5CDD505-2E9C-101B-9397-08002B2CF9AE}" pid="8" name="MSIP_Label_dd17a35c-9c67-4dda-b948-74ee3b80cf57_SetDate">
    <vt:lpwstr>2020-11-26T14:18:48.2663455+02:00</vt:lpwstr>
  </property>
  <property fmtid="{D5CDD505-2E9C-101B-9397-08002B2CF9AE}" pid="9" name="MSIP_Label_dd17a35c-9c67-4dda-b948-74ee3b80cf57_SiteId">
    <vt:lpwstr>93aedbdc-cc67-4652-aa12-d250a876ae79</vt:lpwstr>
  </property>
  <property fmtid="{D5CDD505-2E9C-101B-9397-08002B2CF9AE}" pid="10" name="Sensitivity">
    <vt:lpwstr>Public</vt:lpwstr>
  </property>
</Properties>
</file>